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828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74400" y="114300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18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828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74400" y="4328280"/>
            <a:ext cx="300564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8739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5120" y="432828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5120" y="1143000"/>
            <a:ext cx="45550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1800" y="4328280"/>
            <a:ext cx="93348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7840" y="7494480"/>
            <a:ext cx="10414080" cy="4302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-228600"/>
            <a:ext cx="9651960" cy="1295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77840" y="914400"/>
            <a:ext cx="228600" cy="68580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03040" y="-228600"/>
            <a:ext cx="126972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spcBef>
                <a:spcPts val="2438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3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4" marL="382680" indent="-382680" algn="ctr">
              <a:spcBef>
                <a:spcPts val="2438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5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lvl="6" marL="382680" indent="-382680" algn="ctr">
              <a:spcBef>
                <a:spcPts val="2438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0"/>
            <a:ext cx="9144000" cy="228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1866600" y="4076640"/>
            <a:ext cx="5562720" cy="182880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828800" cy="228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524720"/>
            <a:ext cx="10058400" cy="247680"/>
          </a:xfrm>
          <a:prstGeom prst="rect">
            <a:avLst/>
          </a:prstGeom>
          <a:solidFill>
            <a:srgbClr val="ffe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477200"/>
            <a:ext cx="617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Sadker/Sadker/Zittleman, </a:t>
            </a:r>
            <a:r>
              <a:rPr b="0" i="1" lang="en-US" sz="800" spc="-1" strike="noStrike">
                <a:solidFill>
                  <a:srgbClr val="800080"/>
                </a:solidFill>
                <a:latin typeface="Arial"/>
              </a:rPr>
              <a:t>Teachers, Schools, and Society</a:t>
            </a: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, Eighth Edition. </a:t>
            </a:r>
            <a:br>
              <a:rPr sz="800"/>
            </a:b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© 2008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6000" y="531360"/>
            <a:ext cx="1522440" cy="1754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797280"/>
            <a:ext cx="66294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1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TEACHERS, SCHOOLS,</a:t>
            </a:r>
            <a:br>
              <a:rPr sz="4100"/>
            </a:br>
            <a:r>
              <a:rPr b="1" lang="en-US" sz="4100" spc="-1" strike="noStrike">
                <a:solidFill>
                  <a:srgbClr val="a50021"/>
                </a:solidFill>
                <a:latin typeface="Arial"/>
              </a:rPr>
              <a:t>AND SOCIE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2000" y="5291280"/>
            <a:ext cx="3975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IGHTH ED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048120"/>
            <a:ext cx="29466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DAVID MILLER SADK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MYRA POLLACK SADKER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KAREN R. ZITTLE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lvl="1" marL="509760" indent="0" algn="ctr">
              <a:spcBef>
                <a:spcPts val="233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1874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8920" algn="ctr">
              <a:spcBef>
                <a:spcPts val="1687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8320" algn="ctr">
              <a:spcBef>
                <a:spcPts val="1687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38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09320" y="685440"/>
            <a:ext cx="69678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Life in Schools</a:t>
            </a:r>
            <a:endParaRPr b="1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T-RISK RESPONSES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458496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t-Risk Strategies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43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ene early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43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nd address causes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43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ucture school practices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43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r alternative programs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43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(s)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3080" y="1143000"/>
            <a:ext cx="458316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pecific Teacher Responses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206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200" y="887400"/>
            <a:ext cx="8940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enerated Sugg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7200" y="2362320"/>
            <a:ext cx="9642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2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RACKING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1442520"/>
            <a:ext cx="454968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07920" indent="0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Benefit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9079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care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1160" y="1442520"/>
            <a:ext cx="464508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07920" indent="0">
              <a:spcBef>
                <a:spcPts val="2438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Liabilitie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907920"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oeconomi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838080"/>
            <a:ext cx="8940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enerated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CHOOL TIME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560" y="7310520"/>
            <a:ext cx="92962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rom Jon Goodland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 Place Called Schoo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New York:  McGraw-Hill, 1984)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1689120"/>
            <a:ext cx="62485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IDDLE SCHOOLERS’ SELF-PERCEPTION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560" y="7310520"/>
            <a:ext cx="92962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Roper Youth Report, Question 22, Self-Perception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82840" y="1287360"/>
            <a:ext cx="7086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DOLESCENT ANGST (WHAT TEENS SAY)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5000" y="6710400"/>
            <a:ext cx="8193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other “woes” and “wows” have you heard from teen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7143840"/>
            <a:ext cx="929664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re We Preparing Students for the 2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entury? Metropolitan Life Survey of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he American Teache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0), p. 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8550" r="0" b="0"/>
          <a:stretch/>
        </p:blipFill>
        <p:spPr>
          <a:xfrm>
            <a:off x="189000" y="1828800"/>
            <a:ext cx="96771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HE CHANGING AMERICAN FAMILY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560" y="7310520"/>
            <a:ext cx="92962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ederal Interagency Forum on Child and Family Statistics, America’s Children: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Key National Indicators of Well-Be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16120" y="2514600"/>
            <a:ext cx="66261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LATCHKEY CHILD IN TROUBLE: WARNING SIGNS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1800" y="1143000"/>
            <a:ext cx="933480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VENLY OR UNTIDY CLOTHING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IPS REQUIRING PARENT’S SIGNATURE NOT RETURNED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UNCH OR LUNCH MONEY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WORK NOT COMPLETED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NGS AROUND AFTER SCHOOL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82680" indent="-382680">
              <a:spcBef>
                <a:spcPts val="2438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LINE IN ACHIEVEMEN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7532640"/>
            <a:ext cx="4079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0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HILDREN IN POVERTY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5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010280"/>
            <a:ext cx="9296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U.S. Bureau of the Census, Income, Poverty, and Health Insurance Coverage in the United States.  Current Population Reports (2005).  Available at hppt://www.census.gov/prod/2005pubs/p60-229.p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8765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73936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GRADUATION RATES IN THE U.S.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60" y="7532640"/>
            <a:ext cx="4078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Figure 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010280"/>
            <a:ext cx="92962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Gary Orfield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sing Our Future:  How Minority Youths Are Being Left Behind by the Graduation Rate Cris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2004).  Available at www.urban.or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1920" y="304920"/>
            <a:ext cx="699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961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1:23:17Z</dcterms:created>
  <dc:creator>McGraw-Hill Higher Education</dc:creator>
  <dc:description/>
  <dc:language>en-US</dc:language>
  <cp:lastModifiedBy>Time Inc Time Inc</cp:lastModifiedBy>
  <dcterms:modified xsi:type="dcterms:W3CDTF">2006-09-26T21:28:21Z</dcterms:modified>
  <cp:revision>173</cp:revision>
  <dc:subject/>
  <dc:title>BECOMING A TEACHER</dc:title>
</cp:coreProperties>
</file>