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7840" y="7494480"/>
            <a:ext cx="10414080" cy="4302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-228600"/>
            <a:ext cx="9651960" cy="12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77840" y="914400"/>
            <a:ext cx="228600" cy="68580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03040" y="-228600"/>
            <a:ext cx="126972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3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4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5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6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0"/>
            <a:ext cx="91440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1866600" y="4076640"/>
            <a:ext cx="5562720" cy="18288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8288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524720"/>
            <a:ext cx="10058400" cy="24768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6000" y="531360"/>
            <a:ext cx="1522440" cy="1754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797280"/>
            <a:ext cx="66294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1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TEACHERS, SCHOOLS,</a:t>
            </a:r>
            <a:br>
              <a:rPr sz="4100"/>
            </a:b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AND SOCIE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2000" y="5291280"/>
            <a:ext cx="283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200" y="2971800"/>
            <a:ext cx="2947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DAVID MILLER SADK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MYRA POLLACK SADKER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KAREN R. ZITTLE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lvl="1" marL="509760" indent="0" algn="ctr">
              <a:spcBef>
                <a:spcPts val="233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187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8920" algn="ctr">
              <a:spcBef>
                <a:spcPts val="1687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8320" algn="ctr">
              <a:spcBef>
                <a:spcPts val="1687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320" y="685440"/>
            <a:ext cx="69678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Culturally Responsive Teaching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INDSEY MARIA RILEY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ARCUS GRIFFI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NA GARCIA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KASEM PRAVAT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RIEL KLEI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ARY GOODE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IBRAHIM MOUAWAD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ARLOS MARTINEZ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ASSROOM TIPS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FOR NONSEXIST, NONRACIST TEACHING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room Organiz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perative educ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ultural Cu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ye contac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ing and personal spac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-family relationship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on Strategi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on and questioning student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time 1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time 2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ing task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2138040" indent="-357840">
              <a:lnSpc>
                <a:spcPct val="65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960" y="304920"/>
            <a:ext cx="897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ERCENTAGE OF PUBLIC, ELEMENTARY, AND SECONDARY STUDENTS BY RACE/ETHNICITY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20" y="7532640"/>
            <a:ext cx="5335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7185960"/>
            <a:ext cx="4876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b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.S. Department of Education, National Center for Educational Statistics, Common Core of Data (CCD), “State Nonfiscal Survey of Public Elementary/Secondary Education,” 2003-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82760" y="2666880"/>
            <a:ext cx="7291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PPROACHES TO TEACHING BILINGUAL STUDENT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320" y="1143000"/>
          <a:ext cx="10007640" cy="6362640"/>
        </p:xfrm>
        <a:graphic>
          <a:graphicData uri="http://schemas.openxmlformats.org/drawingml/2006/table">
            <a:tbl>
              <a:tblPr/>
              <a:tblGrid>
                <a:gridCol w="3335400"/>
                <a:gridCol w="3336840"/>
                <a:gridCol w="3335400"/>
              </a:tblGrid>
              <a:tr h="782640"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Advanta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</a:rPr>
                        <a:t>Disadvanta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ubmer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immer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101880" rIns="101880" tIns="50760" bIns="50760" anchor="ctr">
                      <a:noAutofit/>
                    </a:bodyPr>
                    <a:p>
                      <a:pPr lvl="1" marL="127080">
                        <a:lnSpc>
                          <a:spcPct val="100000"/>
                        </a:lnSpc>
                        <a:spcBef>
                          <a:spcPts val="177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/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42880" y="838080"/>
            <a:ext cx="8940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ATES WITH OFFICIAL ENGLISH LAW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73760" y="3611520"/>
            <a:ext cx="32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3760" y="3611520"/>
            <a:ext cx="32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8120" y="4819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03840" y="490860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60720" y="3335400"/>
            <a:ext cx="23760" cy="1908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3"/>
                </a:moveTo>
                <a:lnTo>
                  <a:pt x="9" y="0"/>
                </a:lnTo>
                <a:lnTo>
                  <a:pt x="15" y="12"/>
                </a:lnTo>
                <a:lnTo>
                  <a:pt x="0" y="3"/>
                </a:lnTo>
                <a:close/>
              </a:path>
            </a:pathLst>
          </a:custGeom>
          <a:solidFill>
            <a:srgbClr val="82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4834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0040" y="490392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96880" y="1298520"/>
            <a:ext cx="7010640" cy="589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5840" y="7270920"/>
            <a:ext cx="3851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awaii recognizes English and Hawaiian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7289280"/>
            <a:ext cx="48765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b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.S. English, Inc. (2002), Washington, D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HE GROWING NUMBER OF LEP STUDENTS: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991/92 – 2003/04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7139160"/>
            <a:ext cx="55627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National Clearinghouse for English Language Acquisition, Washington, D.C., December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589040"/>
            <a:ext cx="7543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UDENTS IN DE FACTO MINORITY SCHOOL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7139160"/>
            <a:ext cx="55627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Orfield and Lee, “Racial Transformation and the Changing Nature of Segregation,” Civil Rights Project, Harvard University, January 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36640" y="2286000"/>
            <a:ext cx="658512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ANK’S APPROACH TO MULTICULTURAL EDUCATIO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28880" y="1149480"/>
            <a:ext cx="439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ULTURALLY RESPONSIVE TEACHING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udent Academic Success Builds Self-Esteem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82680"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udent Home Culture is Honored at Schoo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82680"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udents Actively Challenge Social Injusti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6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STINCTIONS: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REOTYPES AND GENERALIZATIONS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1779120"/>
            <a:ext cx="933444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reotyp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stat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ing statement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look yo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ents, in this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ye.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, may avoid direct eye contact.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08560" indent="0">
              <a:spcBef>
                <a:spcPts val="2625"/>
              </a:spcBef>
              <a:buNone/>
              <a:tabLst>
                <a:tab algn="l" pos="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50920" y="88272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udent Generated Respon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88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1:23:17Z</dcterms:created>
  <dc:creator>McGraw-Hill Higher Education</dc:creator>
  <dc:description/>
  <dc:language>en-US</dc:language>
  <cp:lastModifiedBy>Time Inc Time Inc</cp:lastModifiedBy>
  <dcterms:modified xsi:type="dcterms:W3CDTF">2006-09-26T21:26:00Z</dcterms:modified>
  <cp:revision>178</cp:revision>
  <dc:subject/>
  <dc:title>BECOMING A TEACHER</dc:title>
</cp:coreProperties>
</file>