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0058400" cy="77724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8739360" cy="762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61800" y="1143000"/>
            <a:ext cx="933480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61800" y="4328280"/>
            <a:ext cx="933480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8739360" cy="762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61800" y="1143000"/>
            <a:ext cx="455508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45120" y="1143000"/>
            <a:ext cx="455508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61800" y="4328280"/>
            <a:ext cx="455508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45120" y="4328280"/>
            <a:ext cx="455508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8739360" cy="762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61800" y="1143000"/>
            <a:ext cx="300564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18280" y="1143000"/>
            <a:ext cx="300564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74400" y="1143000"/>
            <a:ext cx="300564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61800" y="4328280"/>
            <a:ext cx="300564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18280" y="4328280"/>
            <a:ext cx="300564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74400" y="4328280"/>
            <a:ext cx="300564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8739360" cy="762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61800" y="1143000"/>
            <a:ext cx="9334800" cy="60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4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8739360" cy="762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61800" y="1143000"/>
            <a:ext cx="9334800" cy="60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8739360" cy="762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61800" y="1143000"/>
            <a:ext cx="4555080" cy="60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45120" y="1143000"/>
            <a:ext cx="4555080" cy="60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8739360" cy="762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66680" y="151920"/>
            <a:ext cx="87393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4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8739360" cy="762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61800" y="1143000"/>
            <a:ext cx="455508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45120" y="1143000"/>
            <a:ext cx="4555080" cy="60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61800" y="4328280"/>
            <a:ext cx="455508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8739360" cy="762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61800" y="1143000"/>
            <a:ext cx="9334800" cy="60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4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8739360" cy="762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61800" y="1143000"/>
            <a:ext cx="4555080" cy="60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45120" y="1143000"/>
            <a:ext cx="455508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45120" y="4328280"/>
            <a:ext cx="455508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8739360" cy="762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61800" y="1143000"/>
            <a:ext cx="455508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5120" y="1143000"/>
            <a:ext cx="455508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61800" y="4328280"/>
            <a:ext cx="933480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8739360" cy="762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61800" y="1143000"/>
            <a:ext cx="933480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1800" y="4328280"/>
            <a:ext cx="933480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8739360" cy="762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61800" y="1143000"/>
            <a:ext cx="455508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45120" y="1143000"/>
            <a:ext cx="455508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61800" y="4328280"/>
            <a:ext cx="455508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45120" y="4328280"/>
            <a:ext cx="455508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8739360" cy="762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61800" y="1143000"/>
            <a:ext cx="300564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18280" y="1143000"/>
            <a:ext cx="300564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674400" y="1143000"/>
            <a:ext cx="300564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61800" y="4328280"/>
            <a:ext cx="300564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18280" y="4328280"/>
            <a:ext cx="300564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674400" y="4328280"/>
            <a:ext cx="300564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8739360" cy="762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61800" y="1143000"/>
            <a:ext cx="9334800" cy="60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8739360" cy="762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61800" y="1143000"/>
            <a:ext cx="4555080" cy="60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5120" y="1143000"/>
            <a:ext cx="4555080" cy="60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8739360" cy="762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151920"/>
            <a:ext cx="87393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4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8739360" cy="762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61800" y="1143000"/>
            <a:ext cx="455508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5120" y="1143000"/>
            <a:ext cx="4555080" cy="60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61800" y="4328280"/>
            <a:ext cx="455508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8739360" cy="762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61800" y="1143000"/>
            <a:ext cx="4555080" cy="60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5120" y="1143000"/>
            <a:ext cx="455508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45120" y="4328280"/>
            <a:ext cx="455508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8739360" cy="762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61800" y="1143000"/>
            <a:ext cx="455508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45120" y="1143000"/>
            <a:ext cx="455508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61800" y="4328280"/>
            <a:ext cx="933480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77840" y="7494480"/>
            <a:ext cx="10414080" cy="430200"/>
          </a:xfrm>
          <a:prstGeom prst="rect">
            <a:avLst/>
          </a:prstGeom>
          <a:solidFill>
            <a:srgbClr val="ffee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635040" y="-228600"/>
            <a:ext cx="9651960" cy="1295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-177840" y="914400"/>
            <a:ext cx="228600" cy="6858000"/>
          </a:xfrm>
          <a:prstGeom prst="rect">
            <a:avLst/>
          </a:prstGeom>
          <a:solidFill>
            <a:srgbClr val="ffee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203040" y="-228600"/>
            <a:ext cx="1269720" cy="12952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8739360" cy="762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61800" y="1143000"/>
            <a:ext cx="9334800" cy="60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  <a:p>
            <a:pPr lvl="1" marL="382680" indent="-382680" algn="ctr">
              <a:spcBef>
                <a:spcPts val="2438"/>
              </a:spcBef>
              <a:buClr>
                <a:srgbClr val="3333cc"/>
              </a:buClr>
              <a:buFont typeface="Arial"/>
              <a:buChar char="–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  <a:p>
            <a:pPr lvl="2" marL="382680" indent="-382680" algn="ctr">
              <a:spcBef>
                <a:spcPts val="2438"/>
              </a:spcBef>
              <a:buClr>
                <a:srgbClr val="3333cc"/>
              </a:buClr>
              <a:buFont typeface="Arial"/>
              <a:buChar char="•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  <a:p>
            <a:pPr lvl="3" marL="382680" indent="-382680" algn="ctr">
              <a:spcBef>
                <a:spcPts val="2438"/>
              </a:spcBef>
              <a:buClr>
                <a:srgbClr val="3333cc"/>
              </a:buClr>
              <a:buFont typeface="Arial"/>
              <a:buChar char="–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  <a:p>
            <a:pPr lvl="4" marL="382680" indent="-382680" algn="ctr">
              <a:spcBef>
                <a:spcPts val="2438"/>
              </a:spcBef>
              <a:buClr>
                <a:srgbClr val="3333cc"/>
              </a:buClr>
              <a:buFont typeface="Arial"/>
              <a:buChar char="»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  <a:p>
            <a:pPr lvl="5" marL="382680" indent="-382680" algn="ctr">
              <a:spcBef>
                <a:spcPts val="2438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  <a:p>
            <a:pPr lvl="6" marL="382680" indent="-382680" algn="ctr">
              <a:spcBef>
                <a:spcPts val="2438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886200" y="7477200"/>
            <a:ext cx="617220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800" spc="-1" strike="noStrike">
                <a:solidFill>
                  <a:srgbClr val="800080"/>
                </a:solidFill>
                <a:latin typeface="Arial"/>
              </a:rPr>
              <a:t>Sadker/Sadker/Zittleman, </a:t>
            </a:r>
            <a:r>
              <a:rPr b="0" i="1" lang="en-US" sz="800" spc="-1" strike="noStrike">
                <a:solidFill>
                  <a:srgbClr val="800080"/>
                </a:solidFill>
                <a:latin typeface="Arial"/>
              </a:rPr>
              <a:t>Teachers, Schools, and Society</a:t>
            </a:r>
            <a:r>
              <a:rPr b="0" lang="en-US" sz="800" spc="-1" strike="noStrike">
                <a:solidFill>
                  <a:srgbClr val="800080"/>
                </a:solidFill>
                <a:latin typeface="Arial"/>
              </a:rPr>
              <a:t>, Eighth Edition. </a:t>
            </a:r>
            <a:br>
              <a:rPr sz="800"/>
            </a:br>
            <a:r>
              <a:rPr b="0" lang="en-US" sz="800" spc="-1" strike="noStrike">
                <a:solidFill>
                  <a:srgbClr val="800080"/>
                </a:solidFill>
                <a:latin typeface="Arial"/>
              </a:rPr>
              <a:t>© 2008 The McGraw-Hill Companies, Inc.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14400" y="0"/>
            <a:ext cx="9144000" cy="2286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6200000">
            <a:off x="-1866600" y="4076640"/>
            <a:ext cx="5562720" cy="1828800"/>
          </a:xfrm>
          <a:prstGeom prst="rect">
            <a:avLst/>
          </a:prstGeom>
          <a:solidFill>
            <a:srgbClr val="ffee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ctr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800" spc="-1" strike="noStrike">
                <a:solidFill>
                  <a:srgbClr val="800080"/>
                </a:solidFill>
                <a:latin typeface="Arial"/>
              </a:rPr>
              <a:t>C</a:t>
            </a:r>
            <a:r>
              <a:rPr b="1" lang="en-US" sz="4800" spc="-1" strike="noStrike">
                <a:solidFill>
                  <a:srgbClr val="3399ff"/>
                </a:solidFill>
                <a:latin typeface="Arial"/>
              </a:rPr>
              <a:t>H</a:t>
            </a:r>
            <a:r>
              <a:rPr b="1" lang="en-US" sz="4800" spc="-1" strike="noStrike">
                <a:solidFill>
                  <a:srgbClr val="800080"/>
                </a:solidFill>
                <a:latin typeface="Arial"/>
              </a:rPr>
              <a:t>A</a:t>
            </a:r>
            <a:r>
              <a:rPr b="1" lang="en-US" sz="4800" spc="-1" strike="noStrike">
                <a:solidFill>
                  <a:srgbClr val="3399ff"/>
                </a:solidFill>
                <a:latin typeface="Arial"/>
              </a:rPr>
              <a:t>P</a:t>
            </a:r>
            <a:r>
              <a:rPr b="1" lang="en-US" sz="4800" spc="-1" strike="noStrike">
                <a:solidFill>
                  <a:srgbClr val="800080"/>
                </a:solidFill>
                <a:latin typeface="Arial"/>
              </a:rPr>
              <a:t>T</a:t>
            </a:r>
            <a:r>
              <a:rPr b="1" lang="en-US" sz="4800" spc="-1" strike="noStrike">
                <a:solidFill>
                  <a:srgbClr val="3399ff"/>
                </a:solidFill>
                <a:latin typeface="Arial"/>
              </a:rPr>
              <a:t>E</a:t>
            </a:r>
            <a:r>
              <a:rPr b="1" lang="en-US" sz="4800" spc="-1" strike="noStrike">
                <a:solidFill>
                  <a:srgbClr val="800080"/>
                </a:solidFill>
                <a:latin typeface="Arial"/>
              </a:rPr>
              <a:t>R</a:t>
            </a:r>
            <a:r>
              <a:rPr b="1" lang="en-US" sz="1400" spc="-1" strike="noStrike">
                <a:solidFill>
                  <a:srgbClr val="80008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1828800" cy="22860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7524720"/>
            <a:ext cx="10058400" cy="247680"/>
          </a:xfrm>
          <a:prstGeom prst="rect">
            <a:avLst/>
          </a:prstGeom>
          <a:solidFill>
            <a:srgbClr val="ffee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86200" y="7477200"/>
            <a:ext cx="617220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800" spc="-1" strike="noStrike">
                <a:solidFill>
                  <a:srgbClr val="800080"/>
                </a:solidFill>
                <a:latin typeface="Arial"/>
              </a:rPr>
              <a:t>Sadker/Sadker/Zittleman, </a:t>
            </a:r>
            <a:r>
              <a:rPr b="0" i="1" lang="en-US" sz="800" spc="-1" strike="noStrike">
                <a:solidFill>
                  <a:srgbClr val="800080"/>
                </a:solidFill>
                <a:latin typeface="Arial"/>
              </a:rPr>
              <a:t>Teachers, Schools, and Society</a:t>
            </a:r>
            <a:r>
              <a:rPr b="0" lang="en-US" sz="800" spc="-1" strike="noStrike">
                <a:solidFill>
                  <a:srgbClr val="800080"/>
                </a:solidFill>
                <a:latin typeface="Arial"/>
              </a:rPr>
              <a:t>, Eighth Edition. </a:t>
            </a:r>
            <a:br>
              <a:rPr sz="800"/>
            </a:br>
            <a:r>
              <a:rPr b="0" lang="en-US" sz="800" spc="-1" strike="noStrike">
                <a:solidFill>
                  <a:srgbClr val="800080"/>
                </a:solidFill>
                <a:latin typeface="Arial"/>
              </a:rPr>
              <a:t>© 2008 The McGraw-Hill Companies, Inc.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6000" y="531360"/>
            <a:ext cx="1522440" cy="1754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14600" y="3797280"/>
            <a:ext cx="6629400" cy="14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>
              <a:lnSpc>
                <a:spcPct val="110000"/>
              </a:lnSpc>
              <a:spcBef>
                <a:spcPts val="25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a50021"/>
                </a:solidFill>
                <a:latin typeface="Arial"/>
              </a:rPr>
              <a:t>TEACHERS, SCHOOLS,</a:t>
            </a:r>
            <a:br>
              <a:rPr sz="4100"/>
            </a:br>
            <a:r>
              <a:rPr b="1" lang="en-US" sz="4100" spc="-1" strike="noStrike">
                <a:solidFill>
                  <a:srgbClr val="a50021"/>
                </a:solidFill>
                <a:latin typeface="Arial"/>
              </a:rPr>
              <a:t>AND SOCIETY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02000" y="5291280"/>
            <a:ext cx="28321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>
              <a:lnSpc>
                <a:spcPct val="85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a50021"/>
                </a:solidFill>
                <a:latin typeface="Arial"/>
              </a:rPr>
              <a:t>EIGHTH EDI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611440" y="3200400"/>
            <a:ext cx="2913120" cy="9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a50021"/>
                </a:solidFill>
                <a:latin typeface="Arial"/>
              </a:rPr>
              <a:t>DAVID MILLER SADK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a50021"/>
                </a:solidFill>
                <a:latin typeface="Arial"/>
              </a:rPr>
              <a:t>MYRA POLLACK SADK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a50021"/>
                </a:solidFill>
                <a:latin typeface="Arial"/>
              </a:rPr>
              <a:t>KAREN R. ZITTLEMA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800" spc="-1" strike="noStrike">
                <a:solidFill>
                  <a:srgbClr val="800080"/>
                </a:solidFill>
                <a:latin typeface="Times New Roman"/>
              </a:rPr>
              <a:t>Click to edit the outline text format</a:t>
            </a:r>
            <a:endParaRPr b="1" lang="en-US" sz="4800" spc="-1" strike="noStrike">
              <a:solidFill>
                <a:srgbClr val="800080"/>
              </a:solidFill>
              <a:latin typeface="Times New Roman"/>
            </a:endParaRPr>
          </a:p>
          <a:p>
            <a:pPr lvl="1" marL="509760" indent="0" algn="ctr">
              <a:spcBef>
                <a:spcPts val="233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1874"/>
              </a:spcBef>
              <a:buClr>
                <a:srgbClr val="3333cc"/>
              </a:buClr>
              <a:buFont typeface="Arial"/>
              <a:buChar char="•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28920" algn="ctr">
              <a:spcBef>
                <a:spcPts val="1687"/>
              </a:spcBef>
              <a:buClr>
                <a:srgbClr val="3333cc"/>
              </a:buClr>
              <a:buFont typeface="Arial"/>
              <a:buChar char="–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38320" algn="ctr">
              <a:spcBef>
                <a:spcPts val="1687"/>
              </a:spcBef>
              <a:buClr>
                <a:srgbClr val="3333cc"/>
              </a:buClr>
              <a:buFont typeface="Arial"/>
              <a:buChar char="»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3832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3832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1828800" cy="1447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209320" y="685440"/>
            <a:ext cx="6967800" cy="14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800" spc="-1" strike="noStrike">
                <a:solidFill>
                  <a:srgbClr val="800080"/>
                </a:solidFill>
                <a:latin typeface="Times New Roman"/>
              </a:rPr>
              <a:t>Different Ways of Learning</a:t>
            </a:r>
            <a:endParaRPr b="1" lang="en-US" sz="4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8739360" cy="762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ACCOMMODATIONS FOR STUDENTS WITH SPECIAL NEEDS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487160" y="1143000"/>
            <a:ext cx="8209080" cy="60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93640" indent="0">
              <a:spcBef>
                <a:spcPts val="2064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KEY POINTS:</a:t>
            </a:r>
            <a:endParaRPr b="1" lang="en-US" sz="2200" spc="-1" strike="noStrike">
              <a:solidFill>
                <a:srgbClr val="3333cc"/>
              </a:solidFill>
              <a:latin typeface="Arial"/>
            </a:endParaRPr>
          </a:p>
          <a:p>
            <a:pPr marL="593640" indent="-593640">
              <a:spcBef>
                <a:spcPts val="2064"/>
              </a:spcBef>
              <a:buClr>
                <a:srgbClr val="3333cc"/>
              </a:buClr>
              <a:buFont typeface="Arial"/>
              <a:buAutoNum type="arabi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group work.</a:t>
            </a:r>
            <a:endParaRPr b="1" lang="en-US" sz="2200" spc="-1" strike="noStrike">
              <a:solidFill>
                <a:srgbClr val="3333cc"/>
              </a:solidFill>
              <a:latin typeface="Arial"/>
            </a:endParaRPr>
          </a:p>
          <a:p>
            <a:pPr marL="593640" indent="-593640">
              <a:spcBef>
                <a:spcPts val="2064"/>
              </a:spcBef>
              <a:buClr>
                <a:srgbClr val="3333cc"/>
              </a:buClr>
              <a:buFont typeface="Arial"/>
              <a:buAutoNum type="arabi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hands-on and activity-based learning.</a:t>
            </a:r>
            <a:endParaRPr b="1" lang="en-US" sz="2200" spc="-1" strike="noStrike">
              <a:solidFill>
                <a:srgbClr val="3333cc"/>
              </a:solidFill>
              <a:latin typeface="Arial"/>
            </a:endParaRPr>
          </a:p>
          <a:p>
            <a:pPr marL="593640" indent="-593640">
              <a:spcBef>
                <a:spcPts val="2064"/>
              </a:spcBef>
              <a:buClr>
                <a:srgbClr val="3333cc"/>
              </a:buClr>
              <a:buFont typeface="Arial"/>
              <a:buAutoNum type="arabi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djust the type and length of assignments.</a:t>
            </a:r>
            <a:endParaRPr b="1" lang="en-US" sz="2200" spc="-1" strike="noStrike">
              <a:solidFill>
                <a:srgbClr val="3333cc"/>
              </a:solidFill>
              <a:latin typeface="Arial"/>
            </a:endParaRPr>
          </a:p>
          <a:p>
            <a:pPr marL="593640" indent="-593640">
              <a:spcBef>
                <a:spcPts val="2064"/>
              </a:spcBef>
              <a:buClr>
                <a:srgbClr val="3333cc"/>
              </a:buClr>
              <a:buFont typeface="Arial"/>
              <a:buAutoNum type="arabi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dividualize instruction (use support staff).</a:t>
            </a:r>
            <a:endParaRPr b="1" lang="en-US" sz="2200" spc="-1" strike="noStrike">
              <a:solidFill>
                <a:srgbClr val="3333cc"/>
              </a:solidFill>
              <a:latin typeface="Arial"/>
            </a:endParaRPr>
          </a:p>
          <a:p>
            <a:pPr marL="593640" indent="-593640">
              <a:spcBef>
                <a:spcPts val="2064"/>
              </a:spcBef>
              <a:buClr>
                <a:srgbClr val="3333cc"/>
              </a:buClr>
              <a:buFont typeface="Arial"/>
              <a:buAutoNum type="arabi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arefully select materials or create your own.</a:t>
            </a:r>
            <a:endParaRPr b="1" lang="en-US" sz="2200" spc="-1" strike="noStrike">
              <a:solidFill>
                <a:srgbClr val="3333cc"/>
              </a:solidFill>
              <a:latin typeface="Arial"/>
            </a:endParaRPr>
          </a:p>
          <a:p>
            <a:pPr marL="593640" indent="-593640">
              <a:spcBef>
                <a:spcPts val="2064"/>
              </a:spcBef>
              <a:buClr>
                <a:srgbClr val="3333cc"/>
              </a:buClr>
              <a:buFont typeface="Arial"/>
              <a:buAutoNum type="arabi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esent information orally and visually.</a:t>
            </a:r>
            <a:endParaRPr b="1" lang="en-US" sz="2200" spc="-1" strike="noStrike">
              <a:solidFill>
                <a:srgbClr val="3333cc"/>
              </a:solidFill>
              <a:latin typeface="Arial"/>
            </a:endParaRPr>
          </a:p>
          <a:p>
            <a:pPr marL="593640" indent="-593640">
              <a:spcBef>
                <a:spcPts val="2064"/>
              </a:spcBef>
              <a:buClr>
                <a:srgbClr val="3333cc"/>
              </a:buClr>
              <a:buFont typeface="Arial"/>
              <a:buAutoNum type="arabi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technology.</a:t>
            </a:r>
            <a:endParaRPr b="1" lang="en-US" sz="2200" spc="-1" strike="noStrike">
              <a:solidFill>
                <a:srgbClr val="3333cc"/>
              </a:solidFill>
              <a:latin typeface="Arial"/>
            </a:endParaRPr>
          </a:p>
          <a:p>
            <a:pPr marL="593640" indent="-593640">
              <a:spcBef>
                <a:spcPts val="2064"/>
              </a:spcBef>
              <a:buClr>
                <a:srgbClr val="3333cc"/>
              </a:buClr>
              <a:buFont typeface="Arial"/>
              <a:buAutoNum type="arabi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amine the classroom environment.</a:t>
            </a:r>
            <a:endParaRPr b="1" lang="en-US" sz="2200" spc="-1" strike="noStrike">
              <a:solidFill>
                <a:srgbClr val="3333cc"/>
              </a:solidFill>
              <a:latin typeface="Arial"/>
            </a:endParaRPr>
          </a:p>
          <a:p>
            <a:pPr marL="593640" indent="-593640">
              <a:spcBef>
                <a:spcPts val="2064"/>
              </a:spcBef>
              <a:buClr>
                <a:srgbClr val="3333cc"/>
              </a:buClr>
              <a:buFont typeface="Arial"/>
              <a:buAutoNum type="arabi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various forms of assessment.</a:t>
            </a:r>
            <a:endParaRPr b="1" lang="en-US" sz="2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6360" y="7532640"/>
            <a:ext cx="407844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75680" y="304920"/>
            <a:ext cx="69984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8739360" cy="762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FACTORS CONTRIBUTING TO </a:t>
            </a:r>
            <a:br>
              <a:rPr sz="2800"/>
            </a:b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LEARNING STYLES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6360" y="7532640"/>
            <a:ext cx="407844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660033"/>
                </a:solidFill>
                <a:latin typeface="Arial"/>
              </a:rPr>
              <a:t>Figure 2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75680" y="304920"/>
            <a:ext cx="69984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1809720"/>
            <a:ext cx="9448560" cy="50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8739360" cy="762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CREATING A PRODUCTIVE LEARNING CLIMATE: MYTHS AND FACTS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58680" y="1076400"/>
          <a:ext cx="9988560" cy="6427800"/>
        </p:xfrm>
        <a:graphic>
          <a:graphicData uri="http://schemas.openxmlformats.org/drawingml/2006/table">
            <a:tbl>
              <a:tblPr/>
              <a:tblGrid>
                <a:gridCol w="4997520"/>
                <a:gridCol w="4991040"/>
              </a:tblGrid>
              <a:tr h="1639800">
                <a:tc>
                  <a:txBody>
                    <a:bodyPr lIns="100440" rIns="100440" tIns="54720" bIns="54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SELECTED MYTH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687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ents learn best in quiet surrounding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440" marR="100440">
                    <a:lnL>
                      <a:noFill/>
                    </a:lnL>
                    <a:lnR w="5760">
                      <a:solidFill>
                        <a:srgbClr val="3333cc"/>
                      </a:solidFill>
                    </a:lnR>
                    <a:lnT>
                      <a:noFill/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100440" rIns="100440" tIns="54720" bIns="54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FACT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440" marR="100440">
                    <a:lnL w="5760">
                      <a:solidFill>
                        <a:srgbClr val="3333cc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88920">
                <a:tc>
                  <a:txBody>
                    <a:bodyPr lIns="100440" rIns="100440" tIns="54720" bIns="54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687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ents learn best in well-lighted area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440" marR="100440">
                    <a:lnL>
                      <a:noFill/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100440" rIns="100440" tIns="54720" bIns="54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6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440" marR="100440">
                    <a:lnL w="5760">
                      <a:solidFill>
                        <a:srgbClr val="3333cc"/>
                      </a:solidFill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1862280">
                <a:tc>
                  <a:txBody>
                    <a:bodyPr lIns="100440" rIns="100440" tIns="54720" bIns="54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STUDENT GENERATED MYTH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440" marR="100440">
                    <a:lnL>
                      <a:noFill/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100440" rIns="100440" tIns="54720" bIns="54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FACT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440" marR="100440">
                    <a:lnL w="5760">
                      <a:solidFill>
                        <a:srgbClr val="3333cc"/>
                      </a:solidFill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52560">
                <a:tc>
                  <a:txBody>
                    <a:bodyPr lIns="100440" rIns="100440" tIns="54720" bIns="54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6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440" marR="100440">
                    <a:lnL>
                      <a:noFill/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100440" rIns="100440" tIns="54720" bIns="54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6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440" marR="100440">
                    <a:lnL w="5760">
                      <a:solidFill>
                        <a:srgbClr val="3333cc"/>
                      </a:solidFill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84240">
                <a:tc>
                  <a:txBody>
                    <a:bodyPr lIns="100440" rIns="100440" tIns="54720" bIns="54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6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440" marR="100440">
                    <a:lnL>
                      <a:noFill/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440" rIns="100440" tIns="54720" bIns="54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6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440" marR="100440">
                    <a:lnL w="5760">
                      <a:solidFill>
                        <a:srgbClr val="3333cc"/>
                      </a:solidFill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1219320" y="7305840"/>
            <a:ext cx="3278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6360" y="7532640"/>
            <a:ext cx="407844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73880" y="304920"/>
            <a:ext cx="69984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8739360" cy="762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COST OF SEXISM IN SCHOOLS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3880" y="304920"/>
            <a:ext cx="69984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" y="1523880"/>
          <a:ext cx="9239400" cy="11265120"/>
        </p:xfrm>
        <a:graphic>
          <a:graphicData uri="http://schemas.openxmlformats.org/drawingml/2006/table">
            <a:tbl>
              <a:tblPr/>
              <a:tblGrid>
                <a:gridCol w="4620960"/>
                <a:gridCol w="4618440"/>
              </a:tblGrid>
              <a:tr h="535680"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Fem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M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178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cc"/>
                      </a:solidFill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789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3333c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c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8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3333c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c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8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3333c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c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85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3333c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c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8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3333c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c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1828800" y="2895480"/>
            <a:ext cx="6410160" cy="32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ade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28800" y="4356000"/>
            <a:ext cx="6410160" cy="54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sychological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Phys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828800" y="5965920"/>
            <a:ext cx="6410160" cy="54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reer an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77800" y="838080"/>
            <a:ext cx="894096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udent Generated Respon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8739360" cy="762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CLASSROOM APPLICATIONS OF GARDNER'S THEORY OF MULTIPLE INTELLIGENCES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55440" y="1066680"/>
          <a:ext cx="9985320" cy="6394680"/>
        </p:xfrm>
        <a:graphic>
          <a:graphicData uri="http://schemas.openxmlformats.org/drawingml/2006/table">
            <a:tbl>
              <a:tblPr/>
              <a:tblGrid>
                <a:gridCol w="3237120"/>
                <a:gridCol w="6748200"/>
              </a:tblGrid>
              <a:tr h="628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87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ent Generated Respons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anchor="ctr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 Logical-Mathematica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cc"/>
                      </a:solidFill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 Linguistic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cc"/>
                      </a:solidFill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 Bodily-Kinesthetic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cc"/>
                      </a:solidFill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6379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 Musica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cc"/>
                      </a:solidFill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 Spatia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cc"/>
                      </a:solidFill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 Interpersona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cc"/>
                      </a:solidFill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 Intrapersona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cc"/>
                      </a:solidFill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  Naturalis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cc"/>
                      </a:solidFill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  Other(s)?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cc"/>
                      </a:solidFill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"/>
          <p:cNvSpPr/>
          <p:nvPr/>
        </p:nvSpPr>
        <p:spPr>
          <a:xfrm>
            <a:off x="457200" y="1038240"/>
            <a:ext cx="9144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ESIGN ACTIVITIES THAT EMPHASIZE EACH INTELLIG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920" y="7532640"/>
            <a:ext cx="407988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600" y="304920"/>
            <a:ext cx="69984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8739360" cy="762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CHARACTERISTICS OF GIFTEDNESS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2048040" y="3873600"/>
            <a:ext cx="0" cy="342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9763200" y="3873600"/>
            <a:ext cx="0" cy="342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048040" y="7300800"/>
            <a:ext cx="19270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046240" y="447840"/>
            <a:ext cx="192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2046240" y="446040"/>
            <a:ext cx="0" cy="34257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975120" y="7300800"/>
            <a:ext cx="1928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973680" y="447840"/>
            <a:ext cx="1928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04000" y="7300800"/>
            <a:ext cx="19317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902200" y="447840"/>
            <a:ext cx="1930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835760" y="7300800"/>
            <a:ext cx="192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832880" y="447840"/>
            <a:ext cx="19270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9759960" y="446040"/>
            <a:ext cx="0" cy="34257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6360" y="7532640"/>
            <a:ext cx="407844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660033"/>
                </a:solidFill>
                <a:latin typeface="Arial"/>
              </a:rPr>
              <a:t>Figure 2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7600" y="304920"/>
            <a:ext cx="69984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16080" y="1371600"/>
            <a:ext cx="9448560" cy="58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8739360" cy="762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APPROACHES TO TEACHING GIFTED STUDENTS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58680" y="1295280"/>
          <a:ext cx="9982080" cy="6212160"/>
        </p:xfrm>
        <a:graphic>
          <a:graphicData uri="http://schemas.openxmlformats.org/drawingml/2006/table">
            <a:tbl>
              <a:tblPr/>
              <a:tblGrid>
                <a:gridCol w="2075040"/>
                <a:gridCol w="3976560"/>
                <a:gridCol w="3930480"/>
              </a:tblGrid>
              <a:tr h="979560">
                <a:tc>
                  <a:txBody>
                    <a:bodyPr lIns="101880" rIns="10188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6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1880" rIns="10188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6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 u="sng">
                          <a:solidFill>
                            <a:srgbClr val="3333cc"/>
                          </a:solidFill>
                          <a:uFillTx/>
                          <a:latin typeface="Arial"/>
                        </a:rPr>
                        <a:t>Advantag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1880" rIns="10188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6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 u="sng">
                          <a:solidFill>
                            <a:srgbClr val="3333cc"/>
                          </a:solidFill>
                          <a:uFillTx/>
                          <a:latin typeface="Arial"/>
                        </a:rPr>
                        <a:t>Disadvantag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43120">
                <a:tc>
                  <a:txBody>
                    <a:bodyPr lIns="101880" rIns="101880" tIns="50760" bIns="50760" anchor="ctr">
                      <a:noAutofit/>
                    </a:bodyPr>
                    <a:p>
                      <a:pPr lvl="1" marL="127080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riched curricular offering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101880" rIns="10188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6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01880" marR="101880">
                    <a:lnL>
                      <a:noFill/>
                    </a:lnL>
                    <a:lnR w="5760">
                      <a:solidFill>
                        <a:srgbClr val="3333cc"/>
                      </a:solidFill>
                    </a:lnR>
                    <a:lnT>
                      <a:noFill/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101880" rIns="10188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6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01880" marR="101880">
                    <a:lnL w="5760">
                      <a:solidFill>
                        <a:srgbClr val="3333cc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1746360">
                <a:tc>
                  <a:txBody>
                    <a:bodyPr lIns="101880" rIns="101880" tIns="50760" bIns="50760" anchor="ctr">
                      <a:noAutofit/>
                    </a:bodyPr>
                    <a:p>
                      <a:pPr lvl="1" marL="127080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leratio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01880" marR="101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101880" rIns="10188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6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01880" marR="101880">
                    <a:lnL>
                      <a:noFill/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101880" rIns="10188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6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01880" marR="101880">
                    <a:lnL w="5760">
                      <a:solidFill>
                        <a:srgbClr val="3333cc"/>
                      </a:solidFill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1743120">
                <a:tc>
                  <a:txBody>
                    <a:bodyPr lIns="101880" rIns="101880" tIns="50760" bIns="50760" anchor="ctr">
                      <a:noAutofit/>
                    </a:bodyPr>
                    <a:p>
                      <a:pPr lvl="1" marL="127080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(s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01880" marR="101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1880" rIns="10188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6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01880" marR="101880">
                    <a:lnL>
                      <a:noFill/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1880" rIns="10188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6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01880" marR="101880">
                    <a:lnL w="5760">
                      <a:solidFill>
                        <a:srgbClr val="3333cc"/>
                      </a:solidFill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"/>
          <p:cNvSpPr/>
          <p:nvPr/>
        </p:nvSpPr>
        <p:spPr>
          <a:xfrm>
            <a:off x="552600" y="990720"/>
            <a:ext cx="89406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udent Generated Respon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7600" y="304920"/>
            <a:ext cx="69984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600" y="7532640"/>
            <a:ext cx="407988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8739360" cy="762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CRITICAL PRINCIPLES OF SPECIAL EDUCATION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61440" y="1143000"/>
            <a:ext cx="4589640" cy="60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0">
              <a:spcBef>
                <a:spcPts val="1125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80880" indent="0">
              <a:spcBef>
                <a:spcPts val="1125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80880" indent="-380880">
              <a:spcBef>
                <a:spcPts val="1250"/>
              </a:spcBef>
              <a:buClr>
                <a:srgbClr val="3333cc"/>
              </a:buClr>
              <a:buFont typeface="Arial"/>
              <a:buAutoNum type="arabi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ero Reject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80880" indent="0">
              <a:spcBef>
                <a:spcPts val="125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80880" indent="-380880">
              <a:spcBef>
                <a:spcPts val="1250"/>
              </a:spcBef>
              <a:buClr>
                <a:srgbClr val="3333cc"/>
              </a:buClr>
              <a:buFont typeface="Arial"/>
              <a:buAutoNum type="arabi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discriminatory Education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80880" indent="0">
              <a:spcBef>
                <a:spcPts val="125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80880" indent="-380880">
              <a:spcBef>
                <a:spcPts val="1250"/>
              </a:spcBef>
              <a:buClr>
                <a:srgbClr val="3333cc"/>
              </a:buClr>
              <a:buFont typeface="Arial"/>
              <a:buAutoNum type="arabi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ropriate Education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80880" indent="0">
              <a:spcBef>
                <a:spcPts val="125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80880" indent="-380880">
              <a:spcBef>
                <a:spcPts val="1250"/>
              </a:spcBef>
              <a:buClr>
                <a:srgbClr val="3333cc"/>
              </a:buClr>
              <a:buFont typeface="Arial"/>
              <a:buAutoNum type="arabi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ast-Restrictive Environment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80880" indent="0">
              <a:spcBef>
                <a:spcPts val="125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80880" indent="-380880">
              <a:spcBef>
                <a:spcPts val="1250"/>
              </a:spcBef>
              <a:buClr>
                <a:srgbClr val="3333cc"/>
              </a:buClr>
              <a:buFont typeface="Arial"/>
              <a:buAutoNum type="arabi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edural Due Process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08040" y="1143000"/>
            <a:ext cx="4588200" cy="60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687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 Generate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itions and Examples</a:t>
            </a:r>
            <a:endParaRPr b="1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360" y="7532640"/>
            <a:ext cx="407844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75680" y="304920"/>
            <a:ext cx="69984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8739360" cy="762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DISTRIBUTION OF STUDENTS SERVED UNDER IDEA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6360" y="7532640"/>
            <a:ext cx="407844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660033"/>
                </a:solidFill>
                <a:latin typeface="Arial"/>
              </a:rPr>
              <a:t>Figure 2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73880" y="304920"/>
            <a:ext cx="69984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7185960"/>
            <a:ext cx="335268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b">
            <a:spAutoFit/>
          </a:bodyPr>
          <a:p>
            <a:pPr algn="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U.S. Department of Education, Office of Special Education Programs, 24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Annual Report to Congress (2003), Table 1-5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528920" y="2438280"/>
            <a:ext cx="6999120" cy="30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8T21:23:17Z</dcterms:created>
  <dc:creator>McGraw-Hill Higher Education</dc:creator>
  <dc:description/>
  <dc:language>en-US</dc:language>
  <cp:lastModifiedBy>McGraw-Hill Education</cp:lastModifiedBy>
  <dcterms:modified xsi:type="dcterms:W3CDTF">2006-10-03T12:25:38Z</dcterms:modified>
  <cp:revision>179</cp:revision>
  <dc:subject/>
  <dc:title>BECOMING A TEACHER</dc:title>
</cp:coreProperties>
</file>