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1800" y="432828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512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828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7440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180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828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7440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8739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4512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800" y="432828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4512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1828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7440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6180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1828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7440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8739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512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77840" y="7494480"/>
            <a:ext cx="10414080" cy="430200"/>
          </a:xfrm>
          <a:prstGeom prst="rect">
            <a:avLst/>
          </a:prstGeom>
          <a:solidFill>
            <a:srgbClr val="ffe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35040" y="-228600"/>
            <a:ext cx="9651960" cy="1295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77840" y="914400"/>
            <a:ext cx="228600" cy="6858000"/>
          </a:xfrm>
          <a:prstGeom prst="rect">
            <a:avLst/>
          </a:prstGeom>
          <a:solidFill>
            <a:srgbClr val="ffe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03040" y="-228600"/>
            <a:ext cx="1269720" cy="1295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382680" indent="-382680" algn="ctr">
              <a:spcBef>
                <a:spcPts val="2438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2" marL="382680" indent="-382680" algn="ctr">
              <a:spcBef>
                <a:spcPts val="2438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3" marL="382680" indent="-382680" algn="ctr">
              <a:spcBef>
                <a:spcPts val="2438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4" marL="382680" indent="-382680" algn="ctr">
              <a:spcBef>
                <a:spcPts val="2438"/>
              </a:spcBef>
              <a:buClr>
                <a:srgbClr val="3333cc"/>
              </a:buClr>
              <a:buFont typeface="Arial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5" marL="382680" indent="-382680" algn="ctr">
              <a:spcBef>
                <a:spcPts val="2438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6" marL="382680" indent="-382680" algn="ctr">
              <a:spcBef>
                <a:spcPts val="2438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86200" y="7477200"/>
            <a:ext cx="61722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Sadker/Sadker/Zittleman, </a:t>
            </a:r>
            <a:r>
              <a:rPr b="0" i="1" lang="en-US" sz="800" spc="-1" strike="noStrike">
                <a:solidFill>
                  <a:srgbClr val="800080"/>
                </a:solidFill>
                <a:latin typeface="Arial"/>
              </a:rPr>
              <a:t>Teachers, Schools, and Society</a:t>
            </a: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, Eighth Edition. </a:t>
            </a:r>
            <a:br>
              <a:rPr sz="800"/>
            </a:b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© 2008 The McGraw-Hill Companie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0"/>
            <a:ext cx="9144000" cy="2286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-1866600" y="4076640"/>
            <a:ext cx="5562720" cy="1828800"/>
          </a:xfrm>
          <a:prstGeom prst="rect">
            <a:avLst/>
          </a:prstGeom>
          <a:solidFill>
            <a:srgbClr val="ffe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P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R</a:t>
            </a:r>
            <a:r>
              <a:rPr b="1" lang="en-US" sz="1400" spc="-1" strike="noStrike">
                <a:solidFill>
                  <a:srgbClr val="80008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828800" cy="22860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7524720"/>
            <a:ext cx="10058400" cy="247680"/>
          </a:xfrm>
          <a:prstGeom prst="rect">
            <a:avLst/>
          </a:prstGeom>
          <a:solidFill>
            <a:srgbClr val="ffe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7477200"/>
            <a:ext cx="61722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Sadker/Sadker/Zittleman, </a:t>
            </a:r>
            <a:r>
              <a:rPr b="0" i="1" lang="en-US" sz="800" spc="-1" strike="noStrike">
                <a:solidFill>
                  <a:srgbClr val="800080"/>
                </a:solidFill>
                <a:latin typeface="Arial"/>
              </a:rPr>
              <a:t>Teachers, Schools, and Society</a:t>
            </a: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, Eighth Edition. </a:t>
            </a:r>
            <a:br>
              <a:rPr sz="800"/>
            </a:b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© 2008 The McGraw-Hill Companie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6000" y="531360"/>
            <a:ext cx="1522440" cy="1754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3797280"/>
            <a:ext cx="662940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11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Arial"/>
              </a:rPr>
              <a:t>TEACHERS, SCHOOLS,</a:t>
            </a:r>
            <a:br>
              <a:rPr sz="4100"/>
            </a:br>
            <a:r>
              <a:rPr b="1" lang="en-US" sz="4100" spc="-1" strike="noStrike">
                <a:solidFill>
                  <a:srgbClr val="a50021"/>
                </a:solidFill>
                <a:latin typeface="Arial"/>
              </a:rPr>
              <a:t>AND SOCIET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2000" y="5291280"/>
            <a:ext cx="2527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85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EIGHTH EDI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200" y="3124080"/>
            <a:ext cx="29476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DAVID MILLER SADK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MYRA POLLACK SADKER</a:t>
            </a: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KAREN R. ZITTLEM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 lvl="1" marL="509760" indent="0" algn="ctr">
              <a:spcBef>
                <a:spcPts val="233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1874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28920" algn="ctr">
              <a:spcBef>
                <a:spcPts val="1687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8320" algn="ctr">
              <a:spcBef>
                <a:spcPts val="1687"/>
              </a:spcBef>
              <a:buClr>
                <a:srgbClr val="3333cc"/>
              </a:buClr>
              <a:buFont typeface="Arial"/>
              <a:buChar char="»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38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38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09320" y="685440"/>
            <a:ext cx="696780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Times New Roman"/>
              </a:rPr>
              <a:t>Becoming a Teacher</a:t>
            </a: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BEGINNING and AVERAGE TEACHER SALARIES: 2003-2004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61800" y="1143000"/>
          <a:ext cx="9334800" cy="6045120"/>
        </p:xfrm>
        <a:graphic>
          <a:graphicData uri="http://schemas.openxmlformats.org/drawingml/2006/table">
            <a:tbl>
              <a:tblPr/>
              <a:tblGrid>
                <a:gridCol w="3110040"/>
                <a:gridCol w="3114720"/>
                <a:gridCol w="3110040"/>
              </a:tblGrid>
              <a:tr h="603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EG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VERAGE SAL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EGINNING SAL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5,84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5,1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gin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93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43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Carolin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2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57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Carolin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16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88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i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59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96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88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nesse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31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4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tuck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83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4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kans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2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1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Virgin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49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69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bam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28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9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uisian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12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65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ssipp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21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10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3257640" y="1025640"/>
            <a:ext cx="3574800" cy="4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the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704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88880" y="6835680"/>
          <a:ext cx="9137880" cy="560520"/>
        </p:xfrm>
        <a:graphic>
          <a:graphicData uri="http://schemas.openxmlformats.org/drawingml/2006/table">
            <a:tbl>
              <a:tblPr/>
              <a:tblGrid>
                <a:gridCol w="3565440"/>
                <a:gridCol w="2210040"/>
                <a:gridCol w="3362400"/>
              </a:tblGrid>
              <a:tr h="560520"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U.S. AVER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$46,5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marL="504720"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$31,7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5294160" y="7296120"/>
            <a:ext cx="48787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American Federation of Teachers, Annual Survey of State Departments of Education (200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00" y="7532640"/>
            <a:ext cx="4079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BEGINNING and AVERAGE TEACHER SALARIES: 2003-2004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61800" y="1143000"/>
          <a:ext cx="9334800" cy="6097680"/>
        </p:xfrm>
        <a:graphic>
          <a:graphicData uri="http://schemas.openxmlformats.org/drawingml/2006/table">
            <a:tbl>
              <a:tblPr/>
              <a:tblGrid>
                <a:gridCol w="3111480"/>
                <a:gridCol w="3111840"/>
                <a:gridCol w="3111480"/>
              </a:tblGrid>
              <a:tr h="871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EG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VERAGE SAL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EGINNING SAL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ad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3,31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1,29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7300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ah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1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688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om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53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9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a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97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1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012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an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1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03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4160">
                <a:tc>
                  <a:txBody>
                    <a:bodyPr lIns="0" rIns="0" tIns="0" bIns="0" anchor="t">
                      <a:noAutofit/>
                    </a:bodyPr>
                    <a:p>
                      <a:pPr lvl="1" marL="50976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lvl="1" marL="50976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lvl="1" marL="50976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3257640" y="1025640"/>
            <a:ext cx="3574800" cy="4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cky Mountai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20" y="304920"/>
            <a:ext cx="897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90680" y="6829560"/>
          <a:ext cx="9137520" cy="561960"/>
        </p:xfrm>
        <a:graphic>
          <a:graphicData uri="http://schemas.openxmlformats.org/drawingml/2006/table">
            <a:tbl>
              <a:tblPr/>
              <a:tblGrid>
                <a:gridCol w="3565440"/>
                <a:gridCol w="2209680"/>
                <a:gridCol w="3362400"/>
              </a:tblGrid>
              <a:tr h="561960"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U.S. AVER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$46,5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marL="504720"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$31,7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5295960" y="7291440"/>
            <a:ext cx="48769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American Federation of Teachers, Annual Survey of State Departments of Education (200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00" y="7532640"/>
            <a:ext cx="4079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BEGINNING and AVERAGE TEACHER SALARIES: 2003-2004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61800" y="1143000"/>
          <a:ext cx="9334800" cy="5626080"/>
        </p:xfrm>
        <a:graphic>
          <a:graphicData uri="http://schemas.openxmlformats.org/drawingml/2006/table">
            <a:tbl>
              <a:tblPr/>
              <a:tblGrid>
                <a:gridCol w="3111480"/>
                <a:gridCol w="3111840"/>
                <a:gridCol w="3111480"/>
              </a:tblGrid>
              <a:tr h="80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EG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VERAGE SAL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EGINNING SAL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orn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6,44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5,13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0496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k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13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848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eg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8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39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640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wai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45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6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964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ingt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43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15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704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a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2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94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3241800" y="1025640"/>
            <a:ext cx="3578040" cy="4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r We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20880" y="304920"/>
            <a:ext cx="897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88880" y="6829560"/>
          <a:ext cx="9137880" cy="561960"/>
        </p:xfrm>
        <a:graphic>
          <a:graphicData uri="http://schemas.openxmlformats.org/drawingml/2006/table">
            <a:tbl>
              <a:tblPr/>
              <a:tblGrid>
                <a:gridCol w="3565440"/>
                <a:gridCol w="2210040"/>
                <a:gridCol w="3362400"/>
              </a:tblGrid>
              <a:tr h="561960"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U.S. AVER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$46,5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marL="504720"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$31,7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5294160" y="7291440"/>
            <a:ext cx="48787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American Federation of Teachers, Annual Survey of State Departments of Education (200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00" y="7532640"/>
            <a:ext cx="4079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NEW TEACHER SATISFACTION AND 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WILLINGNESS TO ENTER TEACHING AGAIN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20" y="304920"/>
            <a:ext cx="897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00" y="7532640"/>
            <a:ext cx="4079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1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7238880"/>
            <a:ext cx="525780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National Education Association “Status of the American Public School Teacher,” 2000-2001 ©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83944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AMERICA’S PRIORITIES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20" y="304920"/>
            <a:ext cx="897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00" y="7532640"/>
            <a:ext cx="4079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7238880"/>
            <a:ext cx="525780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Public Agenda 200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162160" y="1219320"/>
            <a:ext cx="5438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WHAT’S WORTH TEACHING TEACHERS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0640" y="1283760"/>
            <a:ext cx="9326520" cy="57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67200" indent="0">
              <a:lnSpc>
                <a:spcPct val="75000"/>
              </a:lnSpc>
              <a:spcBef>
                <a:spcPts val="2112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ESSENTIAL TO TEACH…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67200" indent="-367200">
              <a:lnSpc>
                <a:spcPct val="75000"/>
              </a:lnSpc>
              <a:spcBef>
                <a:spcPts val="2024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ifelong learning and update skills</a:t>
            </a:r>
            <a:endParaRPr b="1" lang="en-US" sz="2500" spc="-1" strike="noStrike">
              <a:solidFill>
                <a:srgbClr val="3333cc"/>
              </a:solidFill>
              <a:latin typeface="Arial"/>
            </a:endParaRPr>
          </a:p>
          <a:p>
            <a:pPr marL="367200" indent="-367200">
              <a:lnSpc>
                <a:spcPct val="75000"/>
              </a:lnSpc>
              <a:spcBef>
                <a:spcPts val="2024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ids to be active learners</a:t>
            </a:r>
            <a:endParaRPr b="1" lang="en-US" sz="2500" spc="-1" strike="noStrike">
              <a:solidFill>
                <a:srgbClr val="3333cc"/>
              </a:solidFill>
              <a:latin typeface="Arial"/>
            </a:endParaRPr>
          </a:p>
          <a:p>
            <a:pPr marL="367200" indent="-367200">
              <a:lnSpc>
                <a:spcPct val="75000"/>
              </a:lnSpc>
              <a:spcBef>
                <a:spcPts val="2024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ld high expectations</a:t>
            </a:r>
            <a:endParaRPr b="1" lang="en-US" sz="2500" spc="-1" strike="noStrike">
              <a:solidFill>
                <a:srgbClr val="3333cc"/>
              </a:solidFill>
              <a:latin typeface="Arial"/>
            </a:endParaRPr>
          </a:p>
          <a:p>
            <a:pPr marL="367200" indent="-367200">
              <a:lnSpc>
                <a:spcPct val="75000"/>
              </a:lnSpc>
              <a:spcBef>
                <a:spcPts val="2024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now content</a:t>
            </a:r>
            <a:endParaRPr b="1" lang="en-US" sz="2500" spc="-1" strike="noStrike">
              <a:solidFill>
                <a:srgbClr val="3333cc"/>
              </a:solidFill>
              <a:latin typeface="Arial"/>
            </a:endParaRPr>
          </a:p>
          <a:p>
            <a:pPr marL="367200" indent="-367200">
              <a:lnSpc>
                <a:spcPct val="75000"/>
              </a:lnSpc>
              <a:spcBef>
                <a:spcPts val="2024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ersed in child development</a:t>
            </a:r>
            <a:endParaRPr b="1" lang="en-US" sz="2500" spc="-1" strike="noStrike">
              <a:solidFill>
                <a:srgbClr val="3333cc"/>
              </a:solidFill>
              <a:latin typeface="Arial"/>
            </a:endParaRPr>
          </a:p>
          <a:p>
            <a:pPr marL="367200" indent="-367200">
              <a:lnSpc>
                <a:spcPct val="75000"/>
              </a:lnSpc>
              <a:spcBef>
                <a:spcPts val="2024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ith limited resources or if kids are not ready to learn</a:t>
            </a:r>
            <a:endParaRPr b="1" lang="en-US" sz="2500" spc="-1" strike="noStrike">
              <a:solidFill>
                <a:srgbClr val="3333cc"/>
              </a:solidFill>
              <a:latin typeface="Arial"/>
            </a:endParaRPr>
          </a:p>
          <a:p>
            <a:pPr marL="367200" indent="-367200">
              <a:lnSpc>
                <a:spcPct val="75000"/>
              </a:lnSpc>
              <a:spcBef>
                <a:spcPts val="2024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rained in pragmatic issues (time and behavior management)</a:t>
            </a:r>
            <a:endParaRPr b="1" lang="en-US" sz="2500" spc="-1" strike="noStrike">
              <a:solidFill>
                <a:srgbClr val="3333cc"/>
              </a:solidFill>
              <a:latin typeface="Arial"/>
            </a:endParaRPr>
          </a:p>
          <a:p>
            <a:pPr marL="367200" indent="-367200">
              <a:lnSpc>
                <a:spcPct val="75000"/>
              </a:lnSpc>
              <a:spcBef>
                <a:spcPts val="2024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intain order and discipline</a:t>
            </a:r>
            <a:endParaRPr b="1" lang="en-US" sz="2500" spc="-1" strike="noStrike">
              <a:solidFill>
                <a:srgbClr val="3333cc"/>
              </a:solidFill>
              <a:latin typeface="Arial"/>
            </a:endParaRPr>
          </a:p>
          <a:p>
            <a:pPr marL="367200" indent="-367200">
              <a:lnSpc>
                <a:spcPct val="75000"/>
              </a:lnSpc>
              <a:spcBef>
                <a:spcPts val="2024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ess correct grammar, spelling, punctuation</a:t>
            </a:r>
            <a:endParaRPr b="1" lang="en-US" sz="2500" spc="-1" strike="noStrike">
              <a:solidFill>
                <a:srgbClr val="3333cc"/>
              </a:solidFill>
              <a:latin typeface="Arial"/>
            </a:endParaRPr>
          </a:p>
          <a:p>
            <a:pPr marL="367200" indent="-367200">
              <a:lnSpc>
                <a:spcPct val="75000"/>
              </a:lnSpc>
              <a:spcBef>
                <a:spcPts val="2024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pect students to be neat, on time, and polite</a:t>
            </a:r>
            <a:endParaRPr b="1" lang="en-US" sz="2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7286760"/>
            <a:ext cx="48769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ifferent Drummers: How Teachers of Teachers View Public Education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 Agenda, 1997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20" y="304920"/>
            <a:ext cx="897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00" y="7532640"/>
            <a:ext cx="4079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WHAT GRADE WOULD YOU GIVE YOUR CURRENT TEACHER EDUCATION PROGRAM?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61800" y="1143000"/>
          <a:ext cx="9334800" cy="6097680"/>
        </p:xfrm>
        <a:graphic>
          <a:graphicData uri="http://schemas.openxmlformats.org/drawingml/2006/table">
            <a:tbl>
              <a:tblPr/>
              <a:tblGrid>
                <a:gridCol w="3465720"/>
                <a:gridCol w="2760480"/>
                <a:gridCol w="3108600"/>
              </a:tblGrid>
              <a:tr h="762120"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99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urr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760"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(A and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880"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760"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ai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3280"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on’t Know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5100480" y="7291440"/>
            <a:ext cx="48769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e Fourth Phi Delta Kappa Poll of Teachers’ Attitudes Toward Public Schools (1997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20" y="304920"/>
            <a:ext cx="897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1724040"/>
            <a:ext cx="52578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600" y="7532640"/>
            <a:ext cx="4079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ADULT PROSE LITERACY SCORES BY SELECTED OCCUPATION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61800" y="1143000"/>
          <a:ext cx="9334800" cy="6097680"/>
        </p:xfrm>
        <a:graphic>
          <a:graphicData uri="http://schemas.openxmlformats.org/drawingml/2006/table">
            <a:tbl>
              <a:tblPr/>
              <a:tblGrid>
                <a:gridCol w="3465720"/>
                <a:gridCol w="2760480"/>
                <a:gridCol w="3108600"/>
              </a:tblGrid>
              <a:tr h="762120"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760"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880"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760"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3280"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76720" y="7010280"/>
            <a:ext cx="67006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David C. Berliner, “A Personal Response to Those Who Bash Teacher Education,”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Journal of Teacher Educ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51, no. 5, November/December 2000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0" y="304920"/>
            <a:ext cx="897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1724040"/>
            <a:ext cx="52578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00" y="7532640"/>
            <a:ext cx="4079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7620120"/>
            <a:ext cx="3967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7640" y="1447920"/>
            <a:ext cx="87631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BECOMING A TEACHER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61800" y="1143000"/>
          <a:ext cx="9334800" cy="6097680"/>
        </p:xfrm>
        <a:graphic>
          <a:graphicData uri="http://schemas.openxmlformats.org/drawingml/2006/table">
            <a:tbl>
              <a:tblPr/>
              <a:tblGrid>
                <a:gridCol w="4668840"/>
                <a:gridCol w="4665960"/>
              </a:tblGrid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</a:rPr>
                        <a:t>The Good New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38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</a:rPr>
                        <a:t>The Bad New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33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d Salar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33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ary Still Behind Other Professio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33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gnized Worth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33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Inferior to Other Professio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33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itement of Working with Youth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33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tle Contact with Adul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33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 Apprecia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33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tle Recognition from Adul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33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lectual Stimula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33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ti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33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ivi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33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33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ing a Differen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33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s of Idealis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23760" y="7532640"/>
            <a:ext cx="4079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60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WHY BECOME A TEACHER?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1440" y="1708200"/>
            <a:ext cx="458964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6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POSITIVE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08040" y="1708200"/>
            <a:ext cx="458820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6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NEGATIVE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219320"/>
            <a:ext cx="894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 Generated Res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920" y="7532640"/>
            <a:ext cx="4079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60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WHY TEACH?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78720" indent="0">
              <a:spcBef>
                <a:spcPts val="206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Reasons Teachers Teach                                    Teachers Agreeing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78720" indent="0">
              <a:spcBef>
                <a:spcPts val="187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re to work with young peo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3%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78720" indent="0">
              <a:spcBef>
                <a:spcPts val="187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or significance of education to socie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4%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78720" indent="0">
              <a:spcBef>
                <a:spcPts val="187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est in subject-matter fie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78720" indent="0">
              <a:spcBef>
                <a:spcPts val="187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luence of teacher in elementary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78720" indent="0">
              <a:lnSpc>
                <a:spcPct val="50000"/>
              </a:lnSpc>
              <a:spcBef>
                <a:spcPts val="187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ary school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78720" indent="0">
              <a:spcBef>
                <a:spcPts val="187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summer vac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78720" indent="0">
              <a:spcBef>
                <a:spcPts val="187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luence of fami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78720" indent="0">
              <a:spcBef>
                <a:spcPts val="187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 secur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78720" indent="0">
              <a:spcBef>
                <a:spcPts val="22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portunity for life time of self-grow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78720" indent="0">
              <a:spcBef>
                <a:spcPts val="22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 National Education Association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tatus of the American Public School Teach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200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78720" indent="0">
              <a:spcBef>
                <a:spcPts val="22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0" y="7532640"/>
            <a:ext cx="4079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60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7613640"/>
            <a:ext cx="4079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BEGINNING and AVERAGE TEACHER SALARIES: 2003-2004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1800" y="1143000"/>
          <a:ext cx="9334800" cy="5626080"/>
        </p:xfrm>
        <a:graphic>
          <a:graphicData uri="http://schemas.openxmlformats.org/drawingml/2006/table">
            <a:tbl>
              <a:tblPr/>
              <a:tblGrid>
                <a:gridCol w="3111480"/>
                <a:gridCol w="3111840"/>
                <a:gridCol w="3111480"/>
              </a:tblGrid>
              <a:tr h="80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EG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VERAGE SAL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EGINNING SAL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cu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6,5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4,36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0496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ode Islan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80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9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848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achuset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27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4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640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o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0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8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964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Hampshi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68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36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704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86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0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80960" y="6829560"/>
          <a:ext cx="9137880" cy="561960"/>
        </p:xfrm>
        <a:graphic>
          <a:graphicData uri="http://schemas.openxmlformats.org/drawingml/2006/table">
            <a:tbl>
              <a:tblPr/>
              <a:tblGrid>
                <a:gridCol w="3565440"/>
                <a:gridCol w="2210040"/>
                <a:gridCol w="3362400"/>
              </a:tblGrid>
              <a:tr h="561960"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U.S. AVER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$46,5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marL="504720"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$31,7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3961440" y="1025640"/>
            <a:ext cx="2175120" cy="4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Engl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00" y="7532640"/>
            <a:ext cx="4079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86240" y="7291440"/>
            <a:ext cx="48769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American Federation of Teachers, Annual Survey of State Departments of Education (200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04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BEGINNING and AVERAGE TEACHER SALARIES: 2003-2004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61800" y="1143000"/>
          <a:ext cx="9334800" cy="5626080"/>
        </p:xfrm>
        <a:graphic>
          <a:graphicData uri="http://schemas.openxmlformats.org/drawingml/2006/table">
            <a:tbl>
              <a:tblPr/>
              <a:tblGrid>
                <a:gridCol w="3111480"/>
                <a:gridCol w="3111840"/>
                <a:gridCol w="3111480"/>
              </a:tblGrid>
              <a:tr h="80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EG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VERAGE SAL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EGINNING SAL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York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5,18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4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0640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Jerse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66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06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524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nsylvan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6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1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640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wa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1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56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964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ylan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30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7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704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4363920" y="1025640"/>
            <a:ext cx="1364400" cy="4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de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04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90680" y="6835680"/>
          <a:ext cx="9137520" cy="560520"/>
        </p:xfrm>
        <a:graphic>
          <a:graphicData uri="http://schemas.openxmlformats.org/drawingml/2006/table">
            <a:tbl>
              <a:tblPr/>
              <a:tblGrid>
                <a:gridCol w="3565440"/>
                <a:gridCol w="2209680"/>
                <a:gridCol w="3362400"/>
              </a:tblGrid>
              <a:tr h="560520"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U.S. AVER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$46,5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marL="504720"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$31,7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5295960" y="7296120"/>
            <a:ext cx="48769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American Federation of Teachers, Annual Survey of State Departments of Education (200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00" y="7532640"/>
            <a:ext cx="4079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BEGINNING and AVERAGE TEACHER SALARIES: 2003-2004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61800" y="1143000"/>
          <a:ext cx="9334800" cy="6423120"/>
        </p:xfrm>
        <a:graphic>
          <a:graphicData uri="http://schemas.openxmlformats.org/drawingml/2006/table">
            <a:tbl>
              <a:tblPr/>
              <a:tblGrid>
                <a:gridCol w="3159360"/>
                <a:gridCol w="3089160"/>
                <a:gridCol w="3086280"/>
              </a:tblGrid>
              <a:tr h="80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EG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VERAGE SAL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EGINNING SAL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ig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4,47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4,37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0316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lino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8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11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172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i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79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69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640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n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79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7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964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nesot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77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704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consi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8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95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704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4044600" y="1025640"/>
            <a:ext cx="2008800" cy="4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at Lak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60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93560" y="6835680"/>
          <a:ext cx="9137880" cy="560520"/>
        </p:xfrm>
        <a:graphic>
          <a:graphicData uri="http://schemas.openxmlformats.org/drawingml/2006/table">
            <a:tbl>
              <a:tblPr/>
              <a:tblGrid>
                <a:gridCol w="3567240"/>
                <a:gridCol w="2208240"/>
                <a:gridCol w="3362400"/>
              </a:tblGrid>
              <a:tr h="560520"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U.S. AVER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$46,5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marL="504720"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$31,7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300640" y="7296120"/>
            <a:ext cx="48751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American Federation of Teachers, Annual Survey of State Departments of Education (200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00" y="7532640"/>
            <a:ext cx="4079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685800" y="1219320"/>
          <a:ext cx="8686800" cy="5562360"/>
        </p:xfrm>
        <a:graphic>
          <a:graphicData uri="http://schemas.openxmlformats.org/drawingml/2006/table">
            <a:tbl>
              <a:tblPr/>
              <a:tblGrid>
                <a:gridCol w="2938320"/>
                <a:gridCol w="2874960"/>
                <a:gridCol w="2873520"/>
              </a:tblGrid>
              <a:tr h="795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EG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VERAGE SAL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EGINNING SAL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brask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9,63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8,5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524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s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6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5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380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w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8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96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380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our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24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93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524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Dakot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4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1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524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Dakot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23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50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BEGINNING and AVERAGE TEACHER SALARIES: 2003-2004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79840" y="1025640"/>
            <a:ext cx="1106640" cy="4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i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04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90680" y="6829560"/>
          <a:ext cx="9137520" cy="561960"/>
        </p:xfrm>
        <a:graphic>
          <a:graphicData uri="http://schemas.openxmlformats.org/drawingml/2006/table">
            <a:tbl>
              <a:tblPr/>
              <a:tblGrid>
                <a:gridCol w="3565440"/>
                <a:gridCol w="2209680"/>
                <a:gridCol w="3362400"/>
              </a:tblGrid>
              <a:tr h="561960"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U.S. AVER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$46,5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marL="504720"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$31,7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5295960" y="7291440"/>
            <a:ext cx="48769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American Federation of Teachers, Annual Survey of State Departments of Education (200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00" y="7532640"/>
            <a:ext cx="4079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BEGINNING and AVERAGE TEACHER SALARIES: 2003-2004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61800" y="1143000"/>
          <a:ext cx="9334800" cy="6097680"/>
        </p:xfrm>
        <a:graphic>
          <a:graphicData uri="http://schemas.openxmlformats.org/drawingml/2006/table">
            <a:tbl>
              <a:tblPr/>
              <a:tblGrid>
                <a:gridCol w="3157560"/>
                <a:gridCol w="3090960"/>
                <a:gridCol w="3086280"/>
              </a:tblGrid>
              <a:tr h="87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EG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VERAGE SAL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EGINNING SAL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zon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2,3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8,23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7300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47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74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688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exic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46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9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0" rIns="0" tIns="0" bIns="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lahom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6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509760"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4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0" rIns="0" tIns="0" bIns="0" anchor="t">
                      <a:noAutofit/>
                    </a:bodyPr>
                    <a:p>
                      <a:pPr lvl="1" marL="50976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lvl="1" marL="50976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lvl="1" marL="50976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960">
                <a:tc>
                  <a:txBody>
                    <a:bodyPr lIns="0" rIns="0" tIns="0" bIns="0" anchor="t">
                      <a:noAutofit/>
                    </a:bodyPr>
                    <a:p>
                      <a:pPr lvl="1" marL="50976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lvl="1" marL="50976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lvl="1" marL="50976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3247920" y="1025640"/>
            <a:ext cx="3576600" cy="4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thwe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04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88880" y="6835680"/>
          <a:ext cx="9137880" cy="560520"/>
        </p:xfrm>
        <a:graphic>
          <a:graphicData uri="http://schemas.openxmlformats.org/drawingml/2006/table">
            <a:tbl>
              <a:tblPr/>
              <a:tblGrid>
                <a:gridCol w="3565440"/>
                <a:gridCol w="2210040"/>
                <a:gridCol w="3362400"/>
              </a:tblGrid>
              <a:tr h="560520"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U.S. AVER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$46,5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 marL="504720"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$31,7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5294160" y="7296120"/>
            <a:ext cx="48787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American Federation of Teachers, Annual Survey of State Departments of Education (200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00" y="7532640"/>
            <a:ext cx="4079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8T21:23:17Z</dcterms:created>
  <dc:creator>McGraw-Hill Higher Education</dc:creator>
  <dc:description/>
  <dc:language>en-US</dc:language>
  <cp:lastModifiedBy>Time Inc Time Inc</cp:lastModifiedBy>
  <dcterms:modified xsi:type="dcterms:W3CDTF">2006-09-26T21:22:11Z</dcterms:modified>
  <cp:revision>178</cp:revision>
  <dc:subject/>
  <dc:title>BECOMING A TEACHER</dc:title>
</cp:coreProperties>
</file>